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161-C567-4A83-BD16-8D97519B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D57-C8A8-4253-805A-38AB840C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09E-5D96-4D9F-A8BE-9E490CF8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93E-C1D7-475A-AC5A-E540367A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48B-49D3-4379-84B5-E379EF00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FEE-DB36-4878-AFB7-3C191F30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BDC-B3B0-40F7-852B-BA5ACB6E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26A-A2F9-44B7-B44C-7B832C1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840-2452-4386-B5A3-1BBA6615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028-B34C-488E-9030-2C17FBA8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9C1-421B-4823-9238-F56B39D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25F-6461-48B9-8792-F078BC3C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B403-576B-4025-8260-AE54F5425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59200">
            <a:off x="678600" y="2096280"/>
            <a:ext cx="776124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ge Planing Project Ref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662800">
            <a:off x="1371600" y="3876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sse Motsenboc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No Frames Button Animated Clipart&#10;&#10;"/>
          <p:cNvPicPr/>
          <p:nvPr/>
        </p:nvPicPr>
        <p:blipFill>
          <a:blip r:embed="rId2"/>
          <a:stretch/>
        </p:blipFill>
        <p:spPr>
          <a:xfrm>
            <a:off x="60948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ema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 I had to learn how to use Excel and find out what it was. I figured out by stretching my brain and trying to figure it out. I learned that you can program cells. Example C5 * C6= C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New Button Animated Clipart&#10;&#10;"/>
          <p:cNvPicPr/>
          <p:nvPr/>
        </p:nvPicPr>
        <p:blipFill>
          <a:blip r:embed="rId1"/>
          <a:stretch/>
        </p:blipFill>
        <p:spPr>
          <a:xfrm>
            <a:off x="114300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echnology I learned what my whole family uses all the, Excel. This was a new thing and it was my first time ever using it. My learning of Excel went through the roof. I learned how to program cells and how to use Excel in gener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5:18Z</dcterms:created>
  <dc:creator>ITSUser</dc:creator>
  <dc:description/>
  <dc:language>en-US</dc:language>
  <cp:lastModifiedBy>ITSUser</cp:lastModifiedBy>
  <dcterms:modified xsi:type="dcterms:W3CDTF">2010-02-10T21:17:29Z</dcterms:modified>
  <cp:revision>8</cp:revision>
  <dc:subject/>
  <dc:title>College Planing Project Reflection</dc:title>
</cp:coreProperties>
</file>